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9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30.jpeg" ContentType="image/jpeg"/>
  <Override PartName="/ppt/media/image18.jpeg" ContentType="image/jpeg"/>
  <Override PartName="/ppt/media/image15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9A17-6A8D-4C94-8363-9F7CFAAF73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75D3-EE71-444B-BBC0-F2A86EB7E7E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8127-1BEA-4EFA-9D16-0BFEB888231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A2C0-E176-48CD-A853-A1987C86051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B58D-6520-42F2-AAD5-2B5FEFBB6C9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7DE0-8015-4DD1-84B3-251F3955E29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E45D-B47B-4E04-A74D-B829E198D2B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63C6-8B00-44E3-BC1E-3A76ABD1E33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EA80-193C-492A-800B-7F5566F50B7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D6F6-1762-4D36-A289-35814CE9D56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0B45-B060-4761-9622-3EE83C1DFFB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6D9A-DA4B-4358-B20A-593500A98CC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5734-2453-4A95-920C-80A718F6CDB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2B19-2408-4AC9-99CB-05EEC8FE27A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4BD3-39E4-426B-918B-2DBC3FAD51E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BFAA-4846-43B1-97C0-CD48FCEB18E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CFD9-2611-48AE-9ED2-3DBA67D2671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5BC3-CC24-4555-BB22-C9C22FAEEC4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F1EB-F847-40EA-B4E5-F3127D57122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B79A-C2F0-4787-80A6-5D9A2AC2140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8C04-87C0-4CC3-98EB-BD773848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7F67-C5BD-4DA3-97A8-6A167355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ABB5-3554-44BD-8391-C2834ED8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A3A-D5C9-46D1-AA08-F356EE03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C7C4-C327-4979-9D61-940E9170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292C-CDE7-4169-86A8-3A412F6D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262A-0C03-4867-9188-A70A5E57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386C-9C7C-4049-842D-11574CBF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44D4-F98A-4920-8F1F-81DE2A13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2A75-34DC-4643-A4E7-8E4BA1B3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7EFE-DC9B-4D30-B30E-9B10F3FA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24F2-FCE0-431E-8B5A-30A6FDA1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486E-537D-4E99-B538-B0D501BE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5808-66C4-4EBC-86CF-10727AED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A701-3EAC-4ECF-B730-105039BB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FA70-7901-4D2C-90AD-DCB578D1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5C06-606D-4FB9-AB98-70C05369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AA4F6-4807-4113-B908-C6F137B9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7290B-F1B7-42DF-9881-DBD0D984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0D730-BD6F-4C05-B259-BFD463C3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69CEE-16EA-42E4-9FDA-0C3B07D8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A34F0-55A9-4EF9-A303-8328BBC3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9635-B8F9-4267-A465-BBC8AC70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D65B4-0B80-4E3A-BB25-182117FB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7EEDF-7A53-4637-9D99-47AD0E64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6B048-7898-4169-88C6-2BA47543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4B760-3CC4-4653-B1AE-26FD8218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66F35-D015-4DB5-9721-6A4C9C47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55107-8674-4C22-856E-E8A3E924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B792A-2F47-4CB8-8A42-459C232F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04EAF-DD8A-45C1-9DB3-D21FA996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3B236-EF6E-486A-99C0-11089416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54541-AC06-4A84-B289-42843F4D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D97-C280-47E6-94A1-BEEB0433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16A4E-C559-47EA-9BDB-F9104E83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B44A8-5CEB-4DF7-AF66-54546A1B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B2723-359C-4E77-9A2F-961562C4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13DA8-A547-485E-BA76-18217E56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DB4AF-F116-4E17-8166-F16FE32B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F840B-DEB3-456E-91B0-32763DD6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74658-2BC2-4FA8-935A-286CD52C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7D0D8-3A16-43D4-A694-34753FBC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97B24-1C87-43CD-877C-B6A4A1C7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A717A-A40D-4CAC-B6C4-18D622DF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BACE-5A1F-42A9-B9D1-A9DEEE49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2815F-E6B3-4133-857C-21F6248D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7D906-8973-4FBA-BB38-F54989BC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4CCDC-7BFC-4115-989A-7EA99C0F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14377-A6D0-494E-A847-61EB1B81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E42D3-E75B-4EE5-839A-D06EAFA5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9800B-0650-4894-B87F-923F3FAD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84555-6A8A-49DB-923A-A030BDFE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783DF-DBF8-4221-97CC-2788245C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392FF-0911-48D3-A77F-9961F7E1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2EDF9-15E7-4381-BBE3-A858E01D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5881-E7F9-47DB-863F-EE07976D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A0A20-873C-4E91-96A1-B32B31CB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D6BAC-8F35-4EFD-9AC6-57A931EA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5A808-525A-4345-AB7B-EF605517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E8DF0-4A9E-43E1-839D-81063B5A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A9DCF-08A4-4A6E-82BC-D1CDE8E2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07A9C-9BAC-4FAF-85BD-0ADECA7B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51D00-1F74-4750-AE6F-97C694FC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10728-0592-4F1E-83E6-A6B68378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4417B-28CA-4590-A76E-35A6791B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5607E-DD62-40E9-9B3B-BEA3592C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53FF-F9CF-47BB-AE48-C1964A5B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7C857-C8F6-4B65-8EC7-A5FDA93F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61D4F-0BCE-4226-AC64-57A20775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B139A-2C1C-4119-8FE6-AC7AC95A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AB9BA-3EA3-45BC-BF72-EA55BEAE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2B32D-24A8-470A-AB5F-06FECB67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034EE-12BF-469F-AB0C-66A80B9C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4C378-626C-4B8A-9E71-93CB2D1F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6DAED-B559-4369-8CF7-47E64719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37EF2-B697-47E4-A99C-1033335A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4EF96-5D6A-4EAC-B2F9-C2252A3B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6CD6-8566-44FC-AC69-01E69733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24E15-B55A-414D-AB3C-C6BBD152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6BEDC-411F-41DE-B54C-2534ED0E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BD382-EAAC-4E0C-92F4-54B91A16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56192-7B6C-456D-AD3E-32550529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49A1E-B3DA-4A09-8DC0-9045694A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966F-E3A1-4A62-87B7-D7C4514D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іліні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іліні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E547-1C22-4B4C-A427-7B2413788B1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іліні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іліні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іліні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іліні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оліліні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іліні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Поліліні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іліні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6363-A138-4BE6-82A9-8FD452CC8EC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іліні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оліліні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іліні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Поліліні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іліні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0BB1-D93A-43D7-A90E-6E6A539B4C4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кутник з одним вирізаним округленим кут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кутний трикут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оліліні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оліліні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6284-946D-4D5B-860F-738E98B5BD9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іліні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Поліліні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7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іліні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01" name="Поліліні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іліні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D904-13B4-4790-8B1F-10CE4E466B3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іліні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Поліліні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7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Поліліні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1" name="Поліліні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Поліліні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402F-92AD-4727-8525-37BF6BF89DF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оліліні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Поліліні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7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Поліліні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01" name="Поліліні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Поліліні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76A8-B633-4870-9E97-501F08EDB11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unitex.com.ua/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8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hyperlink" Target="http://www.unitex.com.ua/" TargetMode="External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8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ww.unitex.com.ua/" TargetMode="Externa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hyperlink" Target="http://www.unitex.com.ua/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hyperlink" Target="http://www.unitex.com.ua/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hyperlink" Target="http://www.unitex.com.ua/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hyperlink" Target="http://www.unitex.com.ua/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738360" y="500040"/>
            <a:ext cx="7918200" cy="1743120"/>
          </a:xfrm>
          <a:prstGeom prst="rect">
            <a:avLst/>
          </a:prstGeom>
          <a:ln w="0">
            <a:noFill/>
          </a:ln>
        </p:spPr>
      </p:pic>
      <p:pic>
        <p:nvPicPr>
          <p:cNvPr id="353" name="Rectangle 3" descr=""/>
          <p:cNvPicPr/>
          <p:nvPr/>
        </p:nvPicPr>
        <p:blipFill>
          <a:blip r:embed="rId2"/>
          <a:stretch/>
        </p:blipFill>
        <p:spPr>
          <a:xfrm>
            <a:off x="493560" y="2651040"/>
            <a:ext cx="4443480" cy="321336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9"/>
          <p:cNvSpPr/>
          <p:nvPr/>
        </p:nvSpPr>
        <p:spPr>
          <a:xfrm>
            <a:off x="2556000" y="6431040"/>
            <a:ext cx="658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Verdana"/>
                <a:hlinkClick r:id="rId3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5" name="Рисунок 5" descr="u_logo copy.png"/>
          <p:cNvPicPr/>
          <p:nvPr/>
        </p:nvPicPr>
        <p:blipFill>
          <a:blip r:embed="rId4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9" descr="peopl.png"/>
          <p:cNvPicPr/>
          <p:nvPr/>
        </p:nvPicPr>
        <p:blipFill>
          <a:blip r:embed="rId5"/>
          <a:srcRect l="12295" t="8750" r="0" b="13751"/>
          <a:stretch/>
        </p:blipFill>
        <p:spPr>
          <a:xfrm>
            <a:off x="4714920" y="1928880"/>
            <a:ext cx="40766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4" descr=""/>
          <p:cNvPicPr/>
          <p:nvPr/>
        </p:nvPicPr>
        <p:blipFill>
          <a:blip r:embed="rId1"/>
          <a:stretch/>
        </p:blipFill>
        <p:spPr>
          <a:xfrm>
            <a:off x="396720" y="244440"/>
            <a:ext cx="8114040" cy="99864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5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3" name="Рисунок 5" descr="personal_card_rus.jpg"/>
          <p:cNvPicPr/>
          <p:nvPr/>
        </p:nvPicPr>
        <p:blipFill>
          <a:blip r:embed="rId3"/>
          <a:stretch/>
        </p:blipFill>
        <p:spPr>
          <a:xfrm>
            <a:off x="857160" y="1143000"/>
            <a:ext cx="70912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01760" y="457200"/>
            <a:ext cx="8467560" cy="21938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713880" y="1999800"/>
            <a:ext cx="8001000" cy="378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55680" indent="-184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матическое формирование  приказов и другой документаци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формировании распорядительной документации изменения по базе данных вносятся автоматически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вается недопущение ошибок пользователем, через систему блокировки возможностей осуществления нелогических операций. Также система предупреждает пользователя о допущенных ошибках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6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500040" y="669960"/>
            <a:ext cx="8077320" cy="13111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857160" y="2286000"/>
            <a:ext cx="7772400" cy="3286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4572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тная кадровая документаци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572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indent="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4572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порядительная документаци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4572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indent="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4572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равочно-информационная документаци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572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indent="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4572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четная документаци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4572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indent="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45720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ругая документаци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0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365040" y="438120"/>
            <a:ext cx="8145720" cy="114156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713880" y="1500120"/>
            <a:ext cx="7643880" cy="450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55680" indent="-1843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чная карточка сотрудника с описанием всех документов, что касаются данного сотрудник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кумент, в котором ведутся остатки ежегодных и дополнительных отпуско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кумент, в котором ведется учет стажа сотруднико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писи о награждении, аттестаци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равка с места работ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кумент для учета специальности по диплом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кумент в котором ведется информация об обучении кадров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стки нетрудоспособност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кумент, в котором ведется учет командировок сотрудник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-1843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рточка учета ликвидаторов (пострадавших) аварии на ЧАЕС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556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4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324000" y="554040"/>
            <a:ext cx="8466120" cy="12384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800280" y="149976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 приеме на работ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 переведении на другую работ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б увольнении с работ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 предоставлении отпуск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б отзыве с отпуск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 совмещении должностей на одном предприяти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 работе в выходные дн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извольный приказ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б оглашении (снятии) выговор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 продолжении (разрывании) трудового договор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ведение штатных единиц в штатное расписани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ведение штатных единиц из штатного расписания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 командировк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 смене режима работ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 направлении на обучени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 установке (снятии) надбавк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каз об изменении фамили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8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231840" y="450720"/>
            <a:ext cx="8558280" cy="159732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014480" y="2071800"/>
            <a:ext cx="5843520" cy="4000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правочник населенных пунктов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иды отпусков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Категории военных званий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остав войск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оенные группы учета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Группы военных званий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ид переведения на другую работу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Классификатор профессий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Направления специальностей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Категории персоналу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Типы принятия на работу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пециальности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2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353880" y="469800"/>
            <a:ext cx="8418600" cy="13953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714240" y="157176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17136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ч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и 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одны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чих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ч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 увольнениях сотрудник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ч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нятости и трудоустройстве инвалид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ч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исленн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трудник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чественном составе и профессиональном обучени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ч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оставлении отпуск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ч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 использовании рабочего време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6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281160" y="517680"/>
            <a:ext cx="8137440" cy="11350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728640" y="178596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66760" indent="-9540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Штатное расписани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говор о полной материальной ответственност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говор о коллективной материальной ответственност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достоверени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-9540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кумент структуры и штатной численност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0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4" descr=""/>
          <p:cNvPicPr/>
          <p:nvPr/>
        </p:nvPicPr>
        <p:blipFill>
          <a:blip r:embed="rId1"/>
          <a:stretch/>
        </p:blipFill>
        <p:spPr>
          <a:xfrm>
            <a:off x="255600" y="262080"/>
            <a:ext cx="8467560" cy="121284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6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5" name="Рисунок 5" descr="order_job_rus.jpg"/>
          <p:cNvPicPr/>
          <p:nvPr/>
        </p:nvPicPr>
        <p:blipFill>
          <a:blip r:embed="rId3"/>
          <a:stretch/>
        </p:blipFill>
        <p:spPr>
          <a:xfrm>
            <a:off x="2000160" y="1266840"/>
            <a:ext cx="54295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6" descr=""/>
          <p:cNvPicPr/>
          <p:nvPr/>
        </p:nvPicPr>
        <p:blipFill>
          <a:blip r:embed="rId1"/>
          <a:stretch/>
        </p:blipFill>
        <p:spPr>
          <a:xfrm>
            <a:off x="566640" y="420840"/>
            <a:ext cx="8064720" cy="141444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799920" y="1928880"/>
            <a:ext cx="7629480" cy="392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71440" indent="-17316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ланирование отпусков сотрудников предприятия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17316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ирование  графиков отпусков по структурных подразделениях и по предприятию в целом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17316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втоматизация расчетов остатка отпускных дней, которые полагаются сотруднику по закону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17316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втоматическое формирование отчета по отпусках на дату запроса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17316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втоматическое отображение информации по предоставленным отпускам после проведения приказа «о предоставлении отпуска»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8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262080" y="407880"/>
            <a:ext cx="8656560" cy="189072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Ваш незаменимый помощник в управлении человеческими ресурсами на предприяти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может контролировать документооборот и вести деловодство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ный продукт, который обеспечивает гибкие настройки под потребности каждого пользовате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9" name="Рисунок 6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39"/>
          <p:cNvSpPr/>
          <p:nvPr/>
        </p:nvSpPr>
        <p:spPr>
          <a:xfrm>
            <a:off x="2556000" y="6431040"/>
            <a:ext cx="658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Verdana"/>
                <a:hlinkClick r:id="rId3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-12600" y="311040"/>
            <a:ext cx="9186840" cy="15606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2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Рисунок 9" descr="leaves_rus.jpg"/>
          <p:cNvPicPr/>
          <p:nvPr/>
        </p:nvPicPr>
        <p:blipFill>
          <a:blip r:embed="rId3"/>
          <a:stretch/>
        </p:blipFill>
        <p:spPr>
          <a:xfrm>
            <a:off x="495360" y="1160640"/>
            <a:ext cx="815328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463680" y="493560"/>
            <a:ext cx="8119800" cy="162108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657360" y="2143080"/>
            <a:ext cx="7772400" cy="414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71440" indent="-1000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дение учета отработанного времени сотрудниками предприяти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1000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матизация при оформлении табеля отработанного времени по структурным подразделениям предприяти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1000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матизация формирования отчетности по использованию рабочего времен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1000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ображение информации по учету отработанного времени по структурных подразделениях предприятия на определенный период, установленный по запросу пользовател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1000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матизация заполнения полей табеля значениями выбранными пользователем и установленными на определенный период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7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-182520" y="554040"/>
            <a:ext cx="9691560" cy="18781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800280" y="2143080"/>
            <a:ext cx="7557840" cy="3643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marL="180000" indent="-9684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дение базы данных по учебным центрам с которыми сотрудничает организаци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80000" indent="-9684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равочная информация по учебным центрам (типы курсов, что проводятся в данном учебном центре, стоимость курсов и т.п.)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80000" indent="-9684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 плана-графика обучения сотрудников предприяти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80000" indent="-9684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дение учета проведенных учебных курсов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80000" indent="-9684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дение учета учебных курсов посещенных слушателем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80000" indent="-9684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есение в базу данных плана-графика проведения курсов учебных центров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80000" indent="-9684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отчетности по обучению персонал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41" name="Рисунок 3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2" descr=""/>
          <p:cNvPicPr/>
          <p:nvPr/>
        </p:nvPicPr>
        <p:blipFill>
          <a:blip r:embed="rId1"/>
          <a:stretch/>
        </p:blipFill>
        <p:spPr>
          <a:xfrm>
            <a:off x="512640" y="469800"/>
            <a:ext cx="8137800" cy="13226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714240" y="207144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программном обеспечении UHRM реализовано гибкую подсистему предоставления прав доступа пользователю через систему ролей. Распределение ролей осуществляется для ограничения доступа пользователей к подсистемам программы в соответствии с исполняемыми пользователем функциями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45" name="Рисунок 5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55440" y="781200"/>
            <a:ext cx="9442440" cy="2058840"/>
          </a:xfrm>
          <a:prstGeom prst="rect">
            <a:avLst/>
          </a:prstGeom>
          <a:ln w="0">
            <a:noFill/>
          </a:ln>
        </p:spPr>
      </p:pic>
      <p:pic>
        <p:nvPicPr>
          <p:cNvPr id="448" name="Місце для вмісту 3" descr=""/>
          <p:cNvPicPr/>
          <p:nvPr/>
        </p:nvPicPr>
        <p:blipFill>
          <a:blip r:embed="rId2"/>
          <a:stretch/>
        </p:blipFill>
        <p:spPr>
          <a:xfrm>
            <a:off x="262080" y="5327640"/>
            <a:ext cx="8540640" cy="124920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5" descr="logo1 copy.png"/>
          <p:cNvPicPr/>
          <p:nvPr/>
        </p:nvPicPr>
        <p:blipFill>
          <a:blip r:embed="rId3"/>
          <a:stretch/>
        </p:blipFill>
        <p:spPr>
          <a:xfrm>
            <a:off x="2384280" y="3403440"/>
            <a:ext cx="4330800" cy="17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341280" y="438120"/>
            <a:ext cx="8223120" cy="11286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571680" y="2286000"/>
            <a:ext cx="7772400" cy="258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Uniteh HRM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andard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dition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назначена для предприятия, которое состоит из одного юридического лица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Uniteh HRM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nterprise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dition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назначена для предприятия, которое состои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из нескольких юридических лиц с единой системой управления и отчетност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63" name="Рисунок 6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39"/>
          <p:cNvSpPr/>
          <p:nvPr/>
        </p:nvSpPr>
        <p:spPr>
          <a:xfrm>
            <a:off x="2556000" y="6431040"/>
            <a:ext cx="658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Verdana"/>
                <a:hlinkClick r:id="rId3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334800" y="444600"/>
            <a:ext cx="8242560" cy="1128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585720" y="164304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1713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, обработка и сохранение кадровой документаци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сть поиска документов (система фильтр-браузер-карточка) и выгрузка результатов выборки в Excel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статистических отчетов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дение штатного расписания в соответствии с иерархической структурой предприяти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т использования рабочего времени – табельный учет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т и планирование отпусков на предприяти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т и планирование обучения на предприяти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истема закрытых для редактирования и открытых справочников;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17136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дминистрирование прав доступу пользователей к подсистемам программы и информаци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67" name="Рисунок 5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39"/>
          <p:cNvSpPr/>
          <p:nvPr/>
        </p:nvSpPr>
        <p:spPr>
          <a:xfrm>
            <a:off x="2556000" y="6431040"/>
            <a:ext cx="658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Verdana"/>
                <a:hlinkClick r:id="rId3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Rectangle 61" descr=""/>
          <p:cNvPicPr/>
          <p:nvPr/>
        </p:nvPicPr>
        <p:blipFill>
          <a:blip r:embed="rId1"/>
          <a:stretch/>
        </p:blipFill>
        <p:spPr>
          <a:xfrm>
            <a:off x="341280" y="365040"/>
            <a:ext cx="8223120" cy="1128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912600" y="1714320"/>
            <a:ext cx="7659720" cy="378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23241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2876400"/>
                <a:tab algn="l" pos="3143160"/>
                <a:tab algn="l" pos="3314880"/>
                <a:tab algn="l" pos="421020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  <a:tab algn="l" pos="7048440"/>
                <a:tab algn="l" pos="7238880"/>
                <a:tab algn="l" pos="7429680"/>
                <a:tab algn="l" pos="7620120"/>
                <a:tab algn="l" pos="7810560"/>
                <a:tab algn="l" pos="8001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грамма состоит из 6 взаимосвязанных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241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2876400"/>
                <a:tab algn="l" pos="3143160"/>
                <a:tab algn="l" pos="3314880"/>
                <a:tab algn="l" pos="421020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  <a:tab algn="l" pos="7048440"/>
                <a:tab algn="l" pos="7238880"/>
                <a:tab algn="l" pos="7429680"/>
                <a:tab algn="l" pos="7620120"/>
                <a:tab algn="l" pos="7810560"/>
                <a:tab algn="l" pos="8001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уле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241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876400"/>
                <a:tab algn="l" pos="3143160"/>
                <a:tab algn="l" pos="3314880"/>
                <a:tab algn="l" pos="421020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  <a:tab algn="l" pos="7048440"/>
                <a:tab algn="l" pos="7238880"/>
                <a:tab algn="l" pos="7429680"/>
                <a:tab algn="l" pos="7620120"/>
                <a:tab algn="l" pos="7810560"/>
                <a:tab algn="l" pos="8001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Предприят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241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876400"/>
                <a:tab algn="l" pos="3143160"/>
                <a:tab algn="l" pos="3314880"/>
                <a:tab algn="l" pos="421020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  <a:tab algn="l" pos="7048440"/>
                <a:tab algn="l" pos="7238880"/>
                <a:tab algn="l" pos="7429680"/>
                <a:tab algn="l" pos="7620120"/>
                <a:tab algn="l" pos="7810560"/>
                <a:tab algn="l" pos="8001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Карточ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241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876400"/>
                <a:tab algn="l" pos="3143160"/>
                <a:tab algn="l" pos="3314880"/>
                <a:tab algn="l" pos="421020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  <a:tab algn="l" pos="7048440"/>
                <a:tab algn="l" pos="7238880"/>
                <a:tab algn="l" pos="7429680"/>
                <a:tab algn="l" pos="7620120"/>
                <a:tab algn="l" pos="7810560"/>
                <a:tab algn="l" pos="8001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Документ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241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876400"/>
                <a:tab algn="l" pos="3143160"/>
                <a:tab algn="l" pos="3314880"/>
                <a:tab algn="l" pos="421020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  <a:tab algn="l" pos="7048440"/>
                <a:tab algn="l" pos="7238880"/>
                <a:tab algn="l" pos="7429680"/>
                <a:tab algn="l" pos="7620120"/>
                <a:tab algn="l" pos="7810560"/>
                <a:tab algn="l" pos="8001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Отпус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241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876400"/>
                <a:tab algn="l" pos="3143160"/>
                <a:tab algn="l" pos="3314880"/>
                <a:tab algn="l" pos="421020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  <a:tab algn="l" pos="7048440"/>
                <a:tab algn="l" pos="7238880"/>
                <a:tab algn="l" pos="7429680"/>
                <a:tab algn="l" pos="7620120"/>
                <a:tab algn="l" pos="7810560"/>
                <a:tab algn="l" pos="8001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Табел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241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876400"/>
                <a:tab algn="l" pos="3143160"/>
                <a:tab algn="l" pos="3314880"/>
                <a:tab algn="l" pos="421020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  <a:tab algn="l" pos="7048440"/>
                <a:tab algn="l" pos="7238880"/>
                <a:tab algn="l" pos="7429680"/>
                <a:tab algn="l" pos="7620120"/>
                <a:tab algn="l" pos="7810560"/>
                <a:tab algn="l" pos="8001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Управление обучением персонал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24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2876400"/>
                <a:tab algn="l" pos="3143160"/>
                <a:tab algn="l" pos="3314880"/>
                <a:tab algn="l" pos="4210200"/>
                <a:tab algn="l" pos="4381560"/>
                <a:tab algn="l" pos="4572000"/>
                <a:tab algn="l" pos="4762440"/>
                <a:tab algn="l" pos="4952880"/>
                <a:tab algn="l" pos="5143680"/>
                <a:tab algn="l" pos="5334120"/>
                <a:tab algn="l" pos="5524560"/>
                <a:tab algn="l" pos="5715000"/>
                <a:tab algn="l" pos="5905440"/>
                <a:tab algn="l" pos="6095880"/>
                <a:tab algn="l" pos="6286680"/>
                <a:tab algn="l" pos="6477120"/>
                <a:tab algn="l" pos="6667560"/>
                <a:tab algn="l" pos="6858000"/>
                <a:tab algn="l" pos="7048440"/>
                <a:tab algn="l" pos="7238880"/>
                <a:tab algn="l" pos="7429680"/>
                <a:tab algn="l" pos="7620120"/>
                <a:tab algn="l" pos="7810560"/>
                <a:tab algn="l" pos="8001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1" name="Рисунок 7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39"/>
          <p:cNvSpPr/>
          <p:nvPr/>
        </p:nvSpPr>
        <p:spPr>
          <a:xfrm>
            <a:off x="2556000" y="6431040"/>
            <a:ext cx="658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Verdana"/>
                <a:hlinkClick r:id="rId3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-6480" y="334800"/>
            <a:ext cx="9156960" cy="115920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32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9"/>
          <p:cNvSpPr/>
          <p:nvPr/>
        </p:nvSpPr>
        <p:spPr>
          <a:xfrm>
            <a:off x="2556000" y="6431040"/>
            <a:ext cx="658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Verdana"/>
                <a:hlinkClick r:id="rId3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Рисунок 34" descr="structure.png"/>
          <p:cNvPicPr/>
          <p:nvPr/>
        </p:nvPicPr>
        <p:blipFill>
          <a:blip r:embed="rId4"/>
          <a:stretch/>
        </p:blipFill>
        <p:spPr>
          <a:xfrm>
            <a:off x="0" y="1400040"/>
            <a:ext cx="914400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237960" y="420840"/>
            <a:ext cx="8253720" cy="14144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714240" y="1928520"/>
            <a:ext cx="7786800" cy="414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5400" algn="just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организационной структуры предприяти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рточки структурных подразделений;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рточки должностей в соответствии с классификатором профессий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матизация ведения штатного расписания в соответствии с иерархической структурой предприяти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справочной информации по свободных вакансиях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ибкость при формировании организационной структуры предприятия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приказов о внесении изменений в штатное расписание предприяти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сть ведения кадрового резерва сотрудников, которые могут занимать определенную должность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9" name="Рисунок 6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39"/>
          <p:cNvSpPr/>
          <p:nvPr/>
        </p:nvSpPr>
        <p:spPr>
          <a:xfrm>
            <a:off x="2556000" y="6431040"/>
            <a:ext cx="658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Verdana"/>
                <a:hlinkClick r:id="rId3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523800" y="317520"/>
            <a:ext cx="8113680" cy="9986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3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Рисунок 6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6" descr="rus_pidpr.jpg"/>
          <p:cNvPicPr/>
          <p:nvPr/>
        </p:nvPicPr>
        <p:blipFill>
          <a:blip r:embed="rId3"/>
          <a:srcRect l="0" t="0" r="2799" b="0"/>
          <a:stretch/>
        </p:blipFill>
        <p:spPr>
          <a:xfrm>
            <a:off x="500040" y="1235160"/>
            <a:ext cx="814392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311040" y="463680"/>
            <a:ext cx="8637840" cy="146844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530280" y="185688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ение карточек персонифицированного учета сотрудников  предприятия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ение карточек инвалидов, пенсионеров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ение карточек ликвидаторов и пострадавших от аварии на ЧАЭС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ение карточек сотрудников работающих по договорам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 электронного варианта трудовых книжек сотрудников предприятия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матизация расчетов трудового стажа сотрудников предприятия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ображение информации по отношению назначений сотрудника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ция о командировках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 листков нетрудоспособности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9540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можность оперативного поиска информации через систему фильтр-браузер и выгрузка результатов выборки в Excel;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8" name="Rectangle 39"/>
          <p:cNvSpPr/>
          <p:nvPr/>
        </p:nvSpPr>
        <p:spPr>
          <a:xfrm>
            <a:off x="2556000" y="6431040"/>
            <a:ext cx="65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aaf2"/>
                </a:solidFill>
                <a:latin typeface="Verdana"/>
              </a:rPr>
              <a:t>www.unitex.com.ua</a:t>
            </a:r>
            <a:r>
              <a:rPr b="0" lang="ru-RU" sz="2000" spc="-1" strike="noStrike">
                <a:solidFill>
                  <a:srgbClr val="59aaf2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91c6f7"/>
                </a:solidFill>
                <a:latin typeface="Verdana"/>
              </a:rPr>
              <a:t>(tel/fax +38 044 531-14-7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9" name="Рисунок 4" descr="u_logo copy.png"/>
          <p:cNvPicPr/>
          <p:nvPr/>
        </p:nvPicPr>
        <p:blipFill>
          <a:blip r:embed="rId2"/>
          <a:stretch/>
        </p:blipFill>
        <p:spPr>
          <a:xfrm>
            <a:off x="0" y="6222960"/>
            <a:ext cx="24382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09:20:01Z</dcterms:created>
  <dc:creator>PASHA</dc:creator>
  <dc:description/>
  <dc:language>en-US</dc:language>
  <cp:lastModifiedBy>Test</cp:lastModifiedBy>
  <dcterms:modified xsi:type="dcterms:W3CDTF">2009-07-03T10:41:39Z</dcterms:modified>
  <cp:revision>332</cp:revision>
  <dc:subject/>
  <dc:title>UNITEX HUMAN RESOURCE MANAGEMENT</dc:title>
</cp:coreProperties>
</file>